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AD5A8-1653-4404-8D29-B25B254632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FD11-897B-47EA-B7F6-2F9A8E78C2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86E0D-3C27-4A32-B61D-4A884B2341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4BD2E-4234-4268-97C7-387AD2B9C2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41AB-B7B4-44C1-A0EE-7BEE80C10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803C-25AB-4665-AD12-AC7B6013B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3ED9-AF99-4321-A7D4-51CC916F3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D970-96C4-43D6-80D2-8A9425A09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6CE6-09F9-4A35-9B03-A1BCDEA2E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6A9A-FF15-4703-A4ED-273A4C25F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1664-717B-4388-9D80-00AF74F52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2001-EBFA-47F1-8876-7B5E1A318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A2CE-193B-4B3D-B2B8-7E322BA68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46D6-42CE-4430-8192-71122BA1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EA41-8913-44F0-B1B8-7E4D4826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B781-B330-439F-8DB2-5AC4723F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50000">
              <a:srgbClr val="ffffff"/>
            </a:gs>
            <a:gs pos="100000">
              <a:srgbClr val="92d05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F9CC0-B0F8-4631-B2C6-1DB36D9E6F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.pn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9.jpe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1.png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vestnikk.ru/uploads/posts/2010-06/slon.jpg" TargetMode="External"/><Relationship Id="rId2" Type="http://schemas.openxmlformats.org/officeDocument/2006/relationships/hyperlink" Target="http://shkola.ostriv.in.ua/images/publications/4/14411/1355755132.jpg" TargetMode="External"/><Relationship Id="rId3" Type="http://schemas.openxmlformats.org/officeDocument/2006/relationships/hyperlink" Target="http://vospitatel.com.ua/images/krot5.jpg" TargetMode="External"/><Relationship Id="rId4" Type="http://schemas.openxmlformats.org/officeDocument/2006/relationships/hyperlink" Target="http://img32.vkrugudruzei.ru/images/119/849/24/29726f3a3f1346e69624689c37ac56f2_med.jpg" TargetMode="External"/><Relationship Id="rId5" Type="http://schemas.openxmlformats.org/officeDocument/2006/relationships/hyperlink" Target="http://katyaburg.ru/sites/default/files/pictures/zabavnie_jivotnie/volk_volki_kartinki_foto_04-3.jpg" TargetMode="External"/><Relationship Id="rId6" Type="http://schemas.openxmlformats.org/officeDocument/2006/relationships/hyperlink" Target="http://img.amigos.lv/img/qna_a/0/34/6540/w8FKVRvqMyZo8Gfda.jpeg" TargetMode="External"/><Relationship Id="rId7" Type="http://schemas.openxmlformats.org/officeDocument/2006/relationships/hyperlink" Target="http://fomchenkov.ru/photogallery/00147big_makro.jpg" TargetMode="External"/><Relationship Id="rId8" Type="http://schemas.openxmlformats.org/officeDocument/2006/relationships/hyperlink" Target="http://kamchatsky-krai.ru/bear/i/103_1.jpg" TargetMode="External"/><Relationship Id="rId9" Type="http://schemas.openxmlformats.org/officeDocument/2006/relationships/hyperlink" Target="http://upload.wikimedia.org/wikipedia/commons/thumb/4/48/Aedes_aegypti_biting_human.jpg/275px-Aedes_aegypti_biting_human.jpg" TargetMode="External"/><Relationship Id="rId10" Type="http://schemas.openxmlformats.org/officeDocument/2006/relationships/hyperlink" Target="http://zhivayapriroda.ru/images/fauna/flamingo.jpg" TargetMode="External"/><Relationship Id="rId11" Type="http://schemas.openxmlformats.org/officeDocument/2006/relationships/hyperlink" Target="http://img0.liveinternet.ru/images/attach/c/3/75/464/75464940_morzh.jpg" TargetMode="External"/><Relationship Id="rId12" Type="http://schemas.openxmlformats.org/officeDocument/2006/relationships/hyperlink" Target="http://vladnews.ru/thumb.php?file=/uploads/2010/11/09/626.jpg&amp;x_width=240" TargetMode="External"/><Relationship Id="rId13" Type="http://schemas.openxmlformats.org/officeDocument/2006/relationships/hyperlink" Target="http://murzim.ru/uploads/posts/2010-12/1292447266_image037.jpg" TargetMode="External"/><Relationship Id="rId14" Type="http://schemas.openxmlformats.org/officeDocument/2006/relationships/hyperlink" Target="http://facepla.net/images/stories2/443/14_animals_to_resurrect/14_animals_to_resurrect_11.jpg" TargetMode="External"/><Relationship Id="rId15" Type="http://schemas.openxmlformats.org/officeDocument/2006/relationships/hyperlink" Target="http://natureworld.ru/misc/archeo/arch_animals/archaeo_animals_09.jpg" TargetMode="External"/><Relationship Id="rId16" Type="http://schemas.openxmlformats.org/officeDocument/2006/relationships/hyperlink" Target="http://www.koipkro.kostroma.ru/Sharya/shool7/DocLib74/013.gif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94920" y="1267920"/>
            <a:ext cx="84646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курс  эруди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Наши любимые животны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ромова Елена  Иван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ОУ РК  «Республиканский  центр образования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КП «РДБ»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0" y="3570120"/>
            <a:ext cx="3348000" cy="3287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431120" y="4646520"/>
            <a:ext cx="1712880" cy="22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У кого уши на ногах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12-конечная звезда 9"/>
          <p:cNvSpPr/>
          <p:nvPr/>
        </p:nvSpPr>
        <p:spPr>
          <a:xfrm>
            <a:off x="2916360" y="1557360"/>
            <a:ext cx="3240000" cy="115236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бабочек и жу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12-конечная звезда 9"/>
          <p:cNvSpPr/>
          <p:nvPr/>
        </p:nvSpPr>
        <p:spPr>
          <a:xfrm>
            <a:off x="2987640" y="3141720"/>
            <a:ext cx="3240000" cy="115236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мух и кома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12-конечная звезда 9"/>
          <p:cNvSpPr/>
          <p:nvPr/>
        </p:nvSpPr>
        <p:spPr>
          <a:xfrm>
            <a:off x="3059280" y="4797360"/>
            <a:ext cx="3240000" cy="115272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кузнечиков и сверч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0" descr=""/>
          <p:cNvPicPr/>
          <p:nvPr/>
        </p:nvPicPr>
        <p:blipFill>
          <a:blip r:embed="rId1"/>
          <a:stretch/>
        </p:blipFill>
        <p:spPr>
          <a:xfrm>
            <a:off x="0" y="3786120"/>
            <a:ext cx="2887560" cy="310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87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93" nodeType="clickEffect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99" nodeType="clickEffect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0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Кто самый крупный из наземных млекопитающих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"/>
          <p:cNvPicPr/>
          <p:nvPr/>
        </p:nvPicPr>
        <p:blipFill>
          <a:blip r:embed="rId1"/>
          <a:stretch/>
        </p:blipFill>
        <p:spPr>
          <a:xfrm>
            <a:off x="0" y="3929040"/>
            <a:ext cx="2714760" cy="2960640"/>
          </a:xfrm>
          <a:prstGeom prst="rect">
            <a:avLst/>
          </a:prstGeom>
          <a:ln w="0">
            <a:noFill/>
          </a:ln>
        </p:spPr>
      </p:pic>
      <p:sp>
        <p:nvSpPr>
          <p:cNvPr id="93" name="12-конечная звезда 9"/>
          <p:cNvSpPr/>
          <p:nvPr/>
        </p:nvSpPr>
        <p:spPr>
          <a:xfrm>
            <a:off x="2843280" y="1700280"/>
            <a:ext cx="3240000" cy="115236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уйв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12-конечная звезда 9"/>
          <p:cNvSpPr/>
          <p:nvPr/>
        </p:nvSpPr>
        <p:spPr>
          <a:xfrm>
            <a:off x="2987640" y="3284640"/>
            <a:ext cx="3240000" cy="115236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гем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12-конечная звезда 9"/>
          <p:cNvSpPr/>
          <p:nvPr/>
        </p:nvSpPr>
        <p:spPr>
          <a:xfrm>
            <a:off x="2987640" y="4797360"/>
            <a:ext cx="3240000" cy="115272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06" nodeType="clickEffect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12" nodeType="clickEffect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18" nodeType="clickEffect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2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ретий  ту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           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знаем, играя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0" y="3252960"/>
            <a:ext cx="3286080" cy="3605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2"/>
          <a:stretch/>
        </p:blipFill>
        <p:spPr>
          <a:xfrm>
            <a:off x="6786720" y="4143240"/>
            <a:ext cx="207000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9152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Закончите  фразу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40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мелый, как  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олодный , как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прямый , как 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рхает, как 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солапый , как…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ищит , как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volk_volki_kartinki_foto_04-3"/>
          <p:cNvPicPr/>
          <p:nvPr/>
        </p:nvPicPr>
        <p:blipFill>
          <a:blip r:embed="rId1"/>
          <a:stretch/>
        </p:blipFill>
        <p:spPr>
          <a:xfrm>
            <a:off x="5003640" y="1700280"/>
            <a:ext cx="1584360" cy="934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00147big_makro"/>
          <p:cNvPicPr/>
          <p:nvPr/>
        </p:nvPicPr>
        <p:blipFill>
          <a:blip r:embed="rId2"/>
          <a:stretch/>
        </p:blipFill>
        <p:spPr>
          <a:xfrm>
            <a:off x="5796000" y="3789360"/>
            <a:ext cx="1584360" cy="79056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1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9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21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2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5" descr="103_1"/>
          <p:cNvPicPr/>
          <p:nvPr/>
        </p:nvPicPr>
        <p:blipFill>
          <a:blip r:embed="rId3"/>
          <a:stretch/>
        </p:blipFill>
        <p:spPr>
          <a:xfrm>
            <a:off x="6300720" y="4724280"/>
            <a:ext cx="1584360" cy="865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7" descr="275px-Aedes_aegypti_biting_human"/>
          <p:cNvPicPr/>
          <p:nvPr/>
        </p:nvPicPr>
        <p:blipFill>
          <a:blip r:embed="rId4"/>
          <a:stretch/>
        </p:blipFill>
        <p:spPr>
          <a:xfrm>
            <a:off x="6659640" y="5734080"/>
            <a:ext cx="1584360" cy="792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8" descr=""/>
          <p:cNvPicPr/>
          <p:nvPr/>
        </p:nvPicPr>
        <p:blipFill>
          <a:blip r:embed="rId5"/>
          <a:stretch/>
        </p:blipFill>
        <p:spPr>
          <a:xfrm>
            <a:off x="0" y="4500720"/>
            <a:ext cx="2000160" cy="2357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2" descr="w8FKVRvqMyZo8Gfda"/>
          <p:cNvPicPr/>
          <p:nvPr/>
        </p:nvPicPr>
        <p:blipFill>
          <a:blip r:embed="rId6"/>
          <a:stretch/>
        </p:blipFill>
        <p:spPr>
          <a:xfrm>
            <a:off x="5364000" y="2708280"/>
            <a:ext cx="1513080" cy="8240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9" descr="29726f3a3f1346e69624689c37ac56f2_med"/>
          <p:cNvPicPr/>
          <p:nvPr/>
        </p:nvPicPr>
        <p:blipFill>
          <a:blip r:embed="rId7"/>
          <a:stretch/>
        </p:blipFill>
        <p:spPr>
          <a:xfrm>
            <a:off x="4716360" y="650880"/>
            <a:ext cx="161604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Разгадайте, какие животные зашифрованы в ребусах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Ребусы про животных"/>
          <p:cNvPicPr/>
          <p:nvPr/>
        </p:nvPicPr>
        <p:blipFill>
          <a:blip r:embed="rId1"/>
          <a:stretch/>
        </p:blipFill>
        <p:spPr>
          <a:xfrm>
            <a:off x="1428840" y="2000160"/>
            <a:ext cx="2425680" cy="1154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Ребусы про животных"/>
          <p:cNvPicPr/>
          <p:nvPr/>
        </p:nvPicPr>
        <p:blipFill>
          <a:blip r:embed="rId2"/>
          <a:stretch/>
        </p:blipFill>
        <p:spPr>
          <a:xfrm>
            <a:off x="1476360" y="4429080"/>
            <a:ext cx="2374920" cy="1305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Ребусы про животных в картинках"/>
          <p:cNvPicPr/>
          <p:nvPr/>
        </p:nvPicPr>
        <p:blipFill>
          <a:blip r:embed="rId3"/>
          <a:stretch/>
        </p:blipFill>
        <p:spPr>
          <a:xfrm>
            <a:off x="5572080" y="4286160"/>
            <a:ext cx="2816280" cy="1143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8" descr="05d6ee59ca9a1a40962e29296823240d"/>
          <p:cNvPicPr/>
          <p:nvPr/>
        </p:nvPicPr>
        <p:blipFill>
          <a:blip r:embed="rId4"/>
          <a:stretch/>
        </p:blipFill>
        <p:spPr>
          <a:xfrm>
            <a:off x="1428840" y="4071960"/>
            <a:ext cx="3000240" cy="2143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0" descr="t4243290_160x120"/>
          <p:cNvPicPr/>
          <p:nvPr/>
        </p:nvPicPr>
        <p:blipFill>
          <a:blip r:embed="rId5"/>
          <a:stretch/>
        </p:blipFill>
        <p:spPr>
          <a:xfrm>
            <a:off x="1428840" y="1714680"/>
            <a:ext cx="2930400" cy="2000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4" descr="tyl005-150x150"/>
          <p:cNvPicPr/>
          <p:nvPr/>
        </p:nvPicPr>
        <p:blipFill>
          <a:blip r:embed="rId6"/>
          <a:stretch/>
        </p:blipFill>
        <p:spPr>
          <a:xfrm>
            <a:off x="5572080" y="4071960"/>
            <a:ext cx="2786040" cy="213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6" descr="Ребусы про животных"/>
          <p:cNvPicPr/>
          <p:nvPr/>
        </p:nvPicPr>
        <p:blipFill>
          <a:blip r:embed="rId7"/>
          <a:stretch/>
        </p:blipFill>
        <p:spPr>
          <a:xfrm>
            <a:off x="5715000" y="2143080"/>
            <a:ext cx="2405160" cy="857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5" descr="103_1"/>
          <p:cNvPicPr/>
          <p:nvPr/>
        </p:nvPicPr>
        <p:blipFill>
          <a:blip r:embed="rId8"/>
          <a:stretch/>
        </p:blipFill>
        <p:spPr>
          <a:xfrm>
            <a:off x="5572080" y="1714680"/>
            <a:ext cx="2714760" cy="1935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3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3" descr=""/>
          <p:cNvPicPr/>
          <p:nvPr/>
        </p:nvPicPr>
        <p:blipFill>
          <a:blip r:embed="rId9"/>
          <a:stretch/>
        </p:blipFill>
        <p:spPr>
          <a:xfrm>
            <a:off x="0" y="5084640"/>
            <a:ext cx="161928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28400" y="356760"/>
            <a:ext cx="8156520" cy="99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Распределите  животных  на группы: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785880" y="1213920"/>
            <a:ext cx="3811680" cy="3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чезнувш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714920" y="1142640"/>
            <a:ext cx="38844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чезающ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flamingo"/>
          <p:cNvPicPr/>
          <p:nvPr/>
        </p:nvPicPr>
        <p:blipFill>
          <a:blip r:embed="rId1"/>
          <a:stretch/>
        </p:blipFill>
        <p:spPr>
          <a:xfrm>
            <a:off x="1214280" y="2357280"/>
            <a:ext cx="1873440" cy="1368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75464940_morzh"/>
          <p:cNvPicPr/>
          <p:nvPr/>
        </p:nvPicPr>
        <p:blipFill>
          <a:blip r:embed="rId2"/>
          <a:stretch/>
        </p:blipFill>
        <p:spPr>
          <a:xfrm>
            <a:off x="1214280" y="4286160"/>
            <a:ext cx="1849680" cy="1440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1292447266_image037"/>
          <p:cNvPicPr/>
          <p:nvPr/>
        </p:nvPicPr>
        <p:blipFill>
          <a:blip r:embed="rId3"/>
          <a:stretch/>
        </p:blipFill>
        <p:spPr>
          <a:xfrm>
            <a:off x="6715080" y="4214880"/>
            <a:ext cx="1944720" cy="1439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3" descr="14_animals_to_resurrect_11"/>
          <p:cNvPicPr/>
          <p:nvPr/>
        </p:nvPicPr>
        <p:blipFill>
          <a:blip r:embed="rId4"/>
          <a:stretch/>
        </p:blipFill>
        <p:spPr>
          <a:xfrm>
            <a:off x="6643800" y="2214720"/>
            <a:ext cx="1944720" cy="1368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7" descr="archaeo_animals_09"/>
          <p:cNvPicPr/>
          <p:nvPr/>
        </p:nvPicPr>
        <p:blipFill>
          <a:blip r:embed="rId5"/>
          <a:stretch/>
        </p:blipFill>
        <p:spPr>
          <a:xfrm>
            <a:off x="3924360" y="4365720"/>
            <a:ext cx="1993680" cy="1368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3" descr=""/>
          <p:cNvPicPr/>
          <p:nvPr/>
        </p:nvPicPr>
        <p:blipFill>
          <a:blip r:embed="rId6"/>
          <a:stretch/>
        </p:blipFill>
        <p:spPr>
          <a:xfrm>
            <a:off x="0" y="5157720"/>
            <a:ext cx="1547640" cy="1700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4" descr="626"/>
          <p:cNvPicPr/>
          <p:nvPr/>
        </p:nvPicPr>
        <p:blipFill>
          <a:blip r:embed="rId7"/>
          <a:stretch/>
        </p:blipFill>
        <p:spPr>
          <a:xfrm>
            <a:off x="3924360" y="2276640"/>
            <a:ext cx="1871640" cy="136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91 -0.05897 L -0.60052 -0.05897 E">
                                      <p:cBhvr>
                                        <p:cTn id="214" dur="3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388 -0.1353 L -0.60834 -0.1353 E">
                                      <p:cBhvr>
                                        <p:cTn id="216" dur="3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2.11841E-006 L -0.29931 0.07354 E">
                                      <p:cBhvr>
                                        <p:cTn id="218" dur="3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566 -0.01966 L 0.54167 -0.12466 E">
                                      <p:cBhvr>
                                        <p:cTn id="220" dur="3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837 0.06683 L 0.53837 0.39986 E">
                                      <p:cBhvr>
                                        <p:cTn id="222" dur="3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0421 L 0.25 -0.0421 E">
                                      <p:cBhvr>
                                        <p:cTn id="224" dur="3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пасибо за работ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                     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Молодцы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3" descr=""/>
          <p:cNvPicPr/>
          <p:nvPr/>
        </p:nvPicPr>
        <p:blipFill>
          <a:blip r:embed="rId1"/>
          <a:stretch/>
        </p:blipFill>
        <p:spPr>
          <a:xfrm>
            <a:off x="0" y="3675240"/>
            <a:ext cx="2987640" cy="31827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"/>
          <p:cNvPicPr/>
          <p:nvPr/>
        </p:nvPicPr>
        <p:blipFill>
          <a:blip r:embed="rId2"/>
          <a:stretch/>
        </p:blipFill>
        <p:spPr>
          <a:xfrm>
            <a:off x="6746760" y="4076640"/>
            <a:ext cx="239724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Использованная литератур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нциклопедия «Любимые животные»-  Издательство «Русич» , Смоленск,1997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.А. Алексеев «300 вопросов и ответов о животных»- Ярославль «Академия Развития»,1997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Использованные источн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549000"/>
            <a:ext cx="829152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395280" y="821880"/>
            <a:ext cx="8424720" cy="46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5f5f5f"/>
                </a:solidFill>
                <a:uFillTx/>
                <a:latin typeface="Arial"/>
                <a:hlinkClick r:id="rId1"/>
              </a:rPr>
              <a:t>http://www.vestnikk.ru/uploads/posts/2010-06/slon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сл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5f5f5f"/>
                </a:solidFill>
                <a:uFillTx/>
                <a:latin typeface="Arial"/>
                <a:hlinkClick r:id="rId2"/>
              </a:rPr>
              <a:t>http://shkola.ostriv.in.ua/images/publications/4/14411/1355755132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ра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5f5f5f"/>
                </a:solidFill>
                <a:uFillTx/>
                <a:latin typeface="Arial"/>
                <a:hlinkClick r:id="rId3"/>
              </a:rPr>
              <a:t>Http://vospitatel.com.ua/images/krot5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кро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5f5f5f"/>
                </a:solidFill>
                <a:uFillTx/>
                <a:latin typeface="Arial"/>
                <a:hlinkClick r:id="rId4"/>
              </a:rPr>
              <a:t>http://img32.vkrugudruzei.ru/images/119/849/24/29726f3a3f1346e69624689c37ac56f2_med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л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5f5f5f"/>
                </a:solidFill>
                <a:uFillTx/>
                <a:latin typeface="Arial"/>
                <a:hlinkClick r:id="rId5"/>
              </a:rPr>
              <a:t>http://katyaburg.ru/sites/default/files/pictures/zabavnie_jivotnie/volk_volki_kartinki_foto_04-3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вол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5f5f5f"/>
                </a:solidFill>
                <a:uFillTx/>
                <a:latin typeface="Arial"/>
                <a:hlinkClick r:id="rId6"/>
              </a:rPr>
              <a:t>http://img.amigos.lv/img/qna_a/0/34/6540/w8FKVRvqMyZo8Gfda.jpe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осё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5f5f5f"/>
                </a:solidFill>
                <a:uFillTx/>
                <a:latin typeface="Arial"/>
                <a:hlinkClick r:id="rId7"/>
              </a:rPr>
              <a:t>http://fomchenkov.ru/photogallery/00147big_makro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бабоч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5f5f5f"/>
                </a:solidFill>
                <a:uFillTx/>
                <a:latin typeface="Arial"/>
                <a:hlinkClick r:id="rId8"/>
              </a:rPr>
              <a:t>http://kamchatsky-krai.ru/bear/i/103_1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медвед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5f5f5f"/>
                </a:solidFill>
                <a:uFillTx/>
                <a:latin typeface="Arial"/>
                <a:hlinkClick r:id="rId9"/>
              </a:rPr>
              <a:t>http://upload.wikimedia.org/wikipedia/commons/thumb/4/48/Aedes_aegypti_biting_human.jpg/275px-Aedes_aegypti_biting_human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кома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5f5f5f"/>
                </a:solidFill>
                <a:uFillTx/>
                <a:latin typeface="Arial"/>
                <a:hlinkClick r:id="rId10"/>
              </a:rPr>
              <a:t>http://zhivayapriroda.ru/images/fauna/flamingo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фламин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5f5f5f"/>
                </a:solidFill>
                <a:uFillTx/>
                <a:latin typeface="Arial"/>
                <a:hlinkClick r:id="rId11"/>
              </a:rPr>
              <a:t>http://img0.liveinternet.ru/images/attach/c/3/75/464/75464940_morzh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мор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5f5f5f"/>
                </a:solidFill>
                <a:uFillTx/>
                <a:latin typeface="Arial"/>
                <a:hlinkClick r:id="rId12"/>
              </a:rPr>
              <a:t>http://vladnews.ru/thumb.php?file=/uploads/2010/11/09/626.jpg&amp;x_width=24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тиг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5f5f5f"/>
                </a:solidFill>
                <a:uFillTx/>
                <a:latin typeface="Arial"/>
                <a:hlinkClick r:id="rId13"/>
              </a:rPr>
              <a:t>http://murzim.ru/uploads/posts/2010-12/1292447266_image037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морская кор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5f5f5f"/>
                </a:solidFill>
                <a:uFillTx/>
                <a:latin typeface="Arial"/>
                <a:hlinkClick r:id="rId14"/>
              </a:rPr>
              <a:t>http://facepla.net/images/stories2/443/14_animals_to_resurrect/14_animals_to_resurrect_11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голуб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5f5f5f"/>
                </a:solidFill>
                <a:uFillTx/>
                <a:latin typeface="Arial"/>
                <a:hlinkClick r:id="rId15"/>
              </a:rPr>
              <a:t>http://natureworld.ru/misc/archeo/arch_animals/archaeo_animals_09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дрон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5f5f5f"/>
                </a:solidFill>
                <a:uFillTx/>
                <a:latin typeface="Arial"/>
                <a:hlinkClick r:id="rId16"/>
              </a:rPr>
              <a:t>http://www.koipkro.kostroma.ru/Sharya/shool7/DocLib74/013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pedsovet.su/load/321-1-0-13661- шаблон презентации(Зинина Светлана Александровн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1narodna.com/images/catalog/medium/05d6ee59ca9a1a40962e29296823240d.jpg.jpg -антило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project66.vietchuyen.org/images/thumbnails/t4243290_160x120.jp- носоро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kto-takoy.ru/wp-content/uploads/2010/03/tyl005-150x150.jpg - верблю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infoarena.ru/infoa_files/imagecache/240x180/users/931/0007374894p-1280x1024.jpg -лекар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vremyazabav.ru/zanimatelno/rebusi/rebusi-slova/95-rebusi-pro-zivotnih.html- ребу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ервый  ту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860760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Бегом по миру живот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один вопрос - один отве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3" descr=""/>
          <p:cNvPicPr/>
          <p:nvPr/>
        </p:nvPicPr>
        <p:blipFill>
          <a:blip r:embed="rId1"/>
          <a:stretch/>
        </p:blipFill>
        <p:spPr>
          <a:xfrm>
            <a:off x="250920" y="3543480"/>
            <a:ext cx="3214440" cy="3314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"/>
          <p:cNvPicPr/>
          <p:nvPr/>
        </p:nvPicPr>
        <p:blipFill>
          <a:blip r:embed="rId2"/>
          <a:stretch/>
        </p:blipFill>
        <p:spPr>
          <a:xfrm>
            <a:off x="6786720" y="4143240"/>
            <a:ext cx="207000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8075520" cy="26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Зачем слону длинный хобот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08000" y="3789000"/>
            <a:ext cx="6778800" cy="22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Хобот слона- это не только нос, но и ловкая «рука».  С помощью хобота он может брать предметы, рвать траву и пить в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slon"/>
          <p:cNvPicPr/>
          <p:nvPr/>
        </p:nvPicPr>
        <p:blipFill>
          <a:blip r:embed="rId1"/>
          <a:stretch/>
        </p:blipFill>
        <p:spPr>
          <a:xfrm>
            <a:off x="2556000" y="115920"/>
            <a:ext cx="3914640" cy="3098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"/>
          <p:cNvPicPr/>
          <p:nvPr/>
        </p:nvPicPr>
        <p:blipFill>
          <a:blip r:embed="rId2"/>
          <a:stretch/>
        </p:blipFill>
        <p:spPr>
          <a:xfrm>
            <a:off x="0" y="4648320"/>
            <a:ext cx="20718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400" y="2357280"/>
            <a:ext cx="843588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На Руси принято грозиться: </a:t>
            </a:r>
            <a:br>
              <a:rPr sz="3400"/>
            </a:b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« Я тебе покажу, где раки зимуют!»  </a:t>
            </a:r>
            <a:br>
              <a:rPr sz="3400"/>
            </a:b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Где же зимуют раки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56840" y="4292280"/>
            <a:ext cx="7572600" cy="18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аки зимуют на самом дне водоёма, в  глубокой яме: одни- в иле, другие под утонувшими сучьями.  На дне вода теплее – вот и собираются там ра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0" y="4797360"/>
            <a:ext cx="1979640" cy="2060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" descr="1355755132"/>
          <p:cNvPicPr/>
          <p:nvPr/>
        </p:nvPicPr>
        <p:blipFill>
          <a:blip r:embed="rId2"/>
          <a:stretch/>
        </p:blipFill>
        <p:spPr>
          <a:xfrm>
            <a:off x="2630520" y="130320"/>
            <a:ext cx="379872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2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2923920"/>
            <a:ext cx="84978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О ком говорят:« Трудится не открывая глаз и не покладая рук»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32000" y="4797360"/>
            <a:ext cx="763272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 кроте.  Длина его всего 10-15 см, вес до 100 г. Крот  выносит на поверхность до 10 тонн земли за год.  Настоящая      землероечная машин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krot5"/>
          <p:cNvPicPr/>
          <p:nvPr/>
        </p:nvPicPr>
        <p:blipFill>
          <a:blip r:embed="rId1"/>
          <a:stretch/>
        </p:blipFill>
        <p:spPr>
          <a:xfrm>
            <a:off x="2700360" y="189000"/>
            <a:ext cx="3816360" cy="2830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"/>
          <p:cNvPicPr/>
          <p:nvPr/>
        </p:nvPicPr>
        <p:blipFill>
          <a:blip r:embed="rId2"/>
          <a:stretch/>
        </p:blipFill>
        <p:spPr>
          <a:xfrm>
            <a:off x="0" y="5000760"/>
            <a:ext cx="18590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9840" y="2285640"/>
            <a:ext cx="87138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Яд каких животных используется в медицине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6920" y="3573000"/>
            <a:ext cx="849816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Змеиный, пчелиный, лягушач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У змеи яд на зубах, у лягушек- на кож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у пчелы- на кончике жа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0" y="4786200"/>
            <a:ext cx="2073240" cy="2071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лекарство аллохол"/>
          <p:cNvPicPr/>
          <p:nvPr/>
        </p:nvPicPr>
        <p:blipFill>
          <a:blip r:embed="rId2"/>
          <a:stretch/>
        </p:blipFill>
        <p:spPr>
          <a:xfrm>
            <a:off x="2700360" y="189000"/>
            <a:ext cx="353520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2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2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2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торой  ту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9720" y="150012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оразмыслим не спеш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Один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- три отве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и правильный!)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рас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цвет-ответ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вер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400" spc="-1" strike="noStrike">
                <a:solidFill>
                  <a:srgbClr val="1de31d"/>
                </a:solidFill>
                <a:latin typeface="Arial"/>
              </a:rPr>
              <a:t>зелёны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ответ </a:t>
            </a:r>
            <a:r>
              <a:rPr b="0" lang="ru-RU" sz="2400" spc="-1" strike="noStrike">
                <a:solidFill>
                  <a:srgbClr val="1de31d"/>
                </a:solidFill>
                <a:latin typeface="Arial"/>
              </a:rPr>
              <a:t>вер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0" y="4437000"/>
            <a:ext cx="2340000" cy="2452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"/>
          <p:cNvPicPr/>
          <p:nvPr/>
        </p:nvPicPr>
        <p:blipFill>
          <a:blip r:embed="rId2"/>
          <a:stretch/>
        </p:blipFill>
        <p:spPr>
          <a:xfrm>
            <a:off x="7358040" y="4786200"/>
            <a:ext cx="178596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8" descr=""/>
          <p:cNvPicPr/>
          <p:nvPr/>
        </p:nvPicPr>
        <p:blipFill>
          <a:blip r:embed="rId1"/>
          <a:stretch/>
        </p:blipFill>
        <p:spPr>
          <a:xfrm>
            <a:off x="0" y="4214880"/>
            <a:ext cx="2571840" cy="26748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Зачем змеи язык показывают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12-конечная звезда 9"/>
          <p:cNvSpPr/>
          <p:nvPr/>
        </p:nvSpPr>
        <p:spPr>
          <a:xfrm>
            <a:off x="2786040" y="1714680"/>
            <a:ext cx="3240000" cy="115236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разня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12-конечная звезда 9"/>
          <p:cNvSpPr/>
          <p:nvPr/>
        </p:nvSpPr>
        <p:spPr>
          <a:xfrm>
            <a:off x="2843280" y="3357720"/>
            <a:ext cx="3313080" cy="115092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щут добыч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12-конечная звезда 9"/>
          <p:cNvSpPr/>
          <p:nvPr/>
        </p:nvSpPr>
        <p:spPr>
          <a:xfrm>
            <a:off x="2916360" y="4941720"/>
            <a:ext cx="3240000" cy="129564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гулируют температуру т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49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55" nodeType="clickEffect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5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61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5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Какая птица самая маленькая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12-конечная звезда 9"/>
          <p:cNvSpPr/>
          <p:nvPr/>
        </p:nvSpPr>
        <p:spPr>
          <a:xfrm>
            <a:off x="3203640" y="1700280"/>
            <a:ext cx="3240000" cy="115236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либ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12-конечная звезда 9"/>
          <p:cNvSpPr/>
          <p:nvPr/>
        </p:nvSpPr>
        <p:spPr>
          <a:xfrm>
            <a:off x="3132000" y="3284640"/>
            <a:ext cx="3240360" cy="115236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олё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12-конечная звезда 9"/>
          <p:cNvSpPr/>
          <p:nvPr/>
        </p:nvSpPr>
        <p:spPr>
          <a:xfrm>
            <a:off x="3203640" y="4941720"/>
            <a:ext cx="3240000" cy="115272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апив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1" descr=""/>
          <p:cNvPicPr/>
          <p:nvPr/>
        </p:nvPicPr>
        <p:blipFill>
          <a:blip r:embed="rId1"/>
          <a:stretch/>
        </p:blipFill>
        <p:spPr>
          <a:xfrm>
            <a:off x="0" y="4000680"/>
            <a:ext cx="2714760" cy="28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68" nodeType="clickEffect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7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74" nodeType="clickEffect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80" nodeType="clickEffect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3T03:26:05Z</dcterms:created>
  <dc:creator>Оля</dc:creator>
  <dc:description/>
  <dc:language>en-US</dc:language>
  <cp:lastModifiedBy>Елена Громова</cp:lastModifiedBy>
  <dcterms:modified xsi:type="dcterms:W3CDTF">2017-10-23T17:50:34Z</dcterms:modified>
  <cp:revision>149</cp:revision>
  <dc:subject/>
  <dc:title>Слайд 1</dc:title>
</cp:coreProperties>
</file>